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61C-A60B-41A9-8818-837B0D99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69E-F7BA-485E-90E5-61A14676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753-2542-4DF6-A0E3-78454EB4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344-9626-43A7-A2B6-52266F9A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EE4C-7350-4861-9306-B169F221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3C40-E58B-4C3B-9C0A-F6716BD1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3EBC-BF71-4974-9CEF-06B1953B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34A-24C3-4D90-9E09-06D66F6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99B3-39A6-4BA0-B2B0-344221A9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7668-3F20-44AE-8A00-B5ADA4E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5318-8DFE-47E4-8DE0-FA7AF62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1F1-9A6E-4770-9AC7-A1290A1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F1AE-979B-4485-A05B-97A78D5D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7176-7786-40DA-8254-2BD66AD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36E9-983F-4F65-A051-FA58253C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C8B3-356C-4505-847A-247A9F8B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6B36-388C-4DC6-A1A0-9EC204A3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98F-43EB-4F57-AD9B-E5F0F3E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F97-069E-416A-B699-6D42D69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7ED-2709-44D5-9D92-0FE0837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595-D326-4D7F-94A6-8F8F5D47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EC8-3D32-4CF1-B9A5-77C79492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FC3-BC4B-403B-8F33-B8093F6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D52-EF90-4CA6-9A8B-16352D3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4805-A6C9-45BE-8E1E-3AB0CE91E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8F1-9700-418B-8C87-8F9A5FC0E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3380d"/>
                </a:solidFill>
                <a:latin typeface="Arial Black"/>
              </a:rPr>
              <a:t>La Mansión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05720" cy="4810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3080" y="586728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Por Matthew Maxw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2943360"/>
            <a:ext cx="5881680" cy="391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152280"/>
            <a:ext cx="373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Es un patio. Es muy magnifico y incredi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2048040"/>
            <a:ext cx="6705720" cy="480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Es una mansi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n. Es muy grande, nuevoa, y bonito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6705720" cy="463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14600" y="304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Es una ba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ñ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o. Es muy nuevoa, modernoa, y fabuloso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4495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22860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 una sala. La sala es muy grande y moder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90920" y="22860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s una cocina. Es muy nuevoa y estupendo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3319560"/>
            <a:ext cx="50911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090880"/>
            <a:ext cx="7162920" cy="476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14400" y="1522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Es un comerdor. Es muy moderno y incredibl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2346480"/>
            <a:ext cx="5638680" cy="4511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1080" y="3049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s un cuatro. Es muy bello y pequ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ñ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262908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609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Es un jardin. Es muy grande y estupend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Luxurious Californian Mansion - Garage"/>
          <p:cNvPicPr/>
          <p:nvPr/>
        </p:nvPicPr>
        <p:blipFill>
          <a:blip r:embed="rId1"/>
          <a:stretch/>
        </p:blipFill>
        <p:spPr>
          <a:xfrm>
            <a:off x="1295280" y="1628640"/>
            <a:ext cx="6972480" cy="522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1080" y="15228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Es un garaje. Es muy grande y boni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5:17Z</dcterms:created>
  <dc:creator>maxwellmat</dc:creator>
  <dc:description/>
  <dc:language>en-US</dc:language>
  <cp:lastModifiedBy>maxwellmat</cp:lastModifiedBy>
  <dcterms:modified xsi:type="dcterms:W3CDTF">2013-04-03T18:11:31Z</dcterms:modified>
  <cp:revision>12</cp:revision>
  <dc:subject/>
  <dc:title>La Mansion</dc:title>
</cp:coreProperties>
</file>